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B9A-4100-4F62-92A7-2F2DFD99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634-4C0F-4DBA-838C-23F2936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F7A-18AB-4F87-9482-55303117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C55-87AC-4635-8392-0BF88902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DE0-3BE4-423A-89BC-2909FA3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87D-F64F-4ACD-9D36-72F69F0F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526C-5108-427C-B205-03CCAD3C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8E0-6839-4F3B-A7EA-87FBE931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332-5709-49AE-A36E-FE83E682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09C-5C09-49C6-88CE-AAB0C45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DA9-9DC7-46B1-B901-6409C0BC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85A-8D5E-442D-9277-E6215F0E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A001-7AEB-4B1C-8914-14A4580AF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rds.yahoo.com/_ylt=A0WTb_laPSRJVoEAjXijzbkF/SIG=127pft7rg/EXP=1227198170/**http%3A/www.ala.org/Images/ALSC/images/snowflake.jpg"/>
          <p:cNvPicPr/>
          <p:nvPr/>
        </p:nvPicPr>
        <p:blipFill>
          <a:blip r:embed="rId1"/>
          <a:stretch/>
        </p:blipFill>
        <p:spPr>
          <a:xfrm>
            <a:off x="1828800" y="609480"/>
            <a:ext cx="5638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Image:SnowflakesWilsonBentley.jpg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its.caltech.edu/~atomic/snowcrystals/vermont/xSaksNewYork.jpg"/>
          <p:cNvPicPr/>
          <p:nvPr/>
        </p:nvPicPr>
        <p:blipFill>
          <a:blip r:embed="rId1"/>
          <a:stretch/>
        </p:blipFill>
        <p:spPr>
          <a:xfrm>
            <a:off x="380880" y="685800"/>
            <a:ext cx="558828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anigami.com/jimwich/jimwich_archives/jw_snowflakes_2004_2005/MensaNewsletterClipart.jpg"/>
          <p:cNvPicPr/>
          <p:nvPr/>
        </p:nvPicPr>
        <p:blipFill>
          <a:blip r:embed="rId2"/>
          <a:stretch/>
        </p:blipFill>
        <p:spPr>
          <a:xfrm>
            <a:off x="914400" y="2743200"/>
            <a:ext cx="362916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anigami.com/jimwich/jimwich_archives/jw_snowflakes_2004_2005/Sears_Flyer.jpg"/>
          <p:cNvPicPr/>
          <p:nvPr/>
        </p:nvPicPr>
        <p:blipFill>
          <a:blip r:embed="rId3"/>
          <a:stretch/>
        </p:blipFill>
        <p:spPr>
          <a:xfrm>
            <a:off x="5029200" y="419112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anigami.com/jimwich/jimwich_archives/jw_snowflakes_2004_2005/OldNavy_Flyer.jpg"/>
          <p:cNvPicPr/>
          <p:nvPr/>
        </p:nvPicPr>
        <p:blipFill>
          <a:blip r:embed="rId4"/>
          <a:stretch/>
        </p:blipFill>
        <p:spPr>
          <a:xfrm>
            <a:off x="2428920" y="685800"/>
            <a:ext cx="6715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lting 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“inquiry-based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not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done to make each more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tube.com/video/915b7e02b686405fa83c/Ice-Melting-Experiment--Jestangs-Science-Video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7162920" cy="945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181480" y="6019920"/>
            <a:ext cx="4876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1880" y="1295280"/>
            <a:ext cx="4343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uise Rosenb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57Z</dcterms:created>
  <dc:creator>Edward Robeck</dc:creator>
  <dc:description/>
  <dc:language>en-US</dc:language>
  <cp:lastModifiedBy>Information Technology</cp:lastModifiedBy>
  <dcterms:modified xsi:type="dcterms:W3CDTF">2010-03-01T18:45:59Z</dcterms:modified>
  <cp:revision>7</cp:revision>
  <dc:subject/>
  <dc:title>Slide 1</dc:title>
</cp:coreProperties>
</file>